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874-4C75-4ED1-B4A9-F4B2F4B6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3DD-3A06-4ABA-A74D-B459ED1E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262B-CE25-4C1D-938E-36C040CE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EAF-901D-4466-838E-012208B5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148-BD5D-4F59-BE75-5F2D2026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610-312D-4130-94CD-4463BCD0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70A-3EA3-42D7-91B9-B3C0AC0B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0D7-BEB9-4F06-A2DC-972AA612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ADF-494B-44DB-BA09-E6251D50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3F4-B0B0-4370-B83C-43A6B903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FF9-CBAD-4E62-A73D-723F2DE3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10A-3505-4C20-B8C9-108C347D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6053-D53F-42A7-9C65-3F2EE2EFE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611280" y="2060280"/>
            <a:ext cx="721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1907640" y="1844280"/>
            <a:ext cx="15138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419640" y="1628640"/>
            <a:ext cx="502920" cy="432000"/>
          </a:xfrm>
          <a:prstGeom prst="sun">
            <a:avLst>
              <a:gd name="adj" fmla="val 25000"/>
            </a:avLst>
          </a:prstGeom>
          <a:solidFill>
            <a:srgbClr val="f3e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70028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13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1834920" y="2565000"/>
            <a:ext cx="15865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 rot="10800000">
            <a:off x="3348000" y="2421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48000" y="2133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2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endCxn id="49" idx="0"/>
          </p:cNvCxnSpPr>
          <p:nvPr/>
        </p:nvCxnSpPr>
        <p:spPr>
          <a:xfrm>
            <a:off x="2915280" y="1846080"/>
            <a:ext cx="1873080" cy="575280"/>
          </a:xfrm>
          <a:prstGeom prst="bentConnector3">
            <a:avLst>
              <a:gd name="adj1" fmla="val 112956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>
            <a:off x="1403280" y="1844280"/>
            <a:ext cx="504000" cy="216720"/>
          </a:xfrm>
          <a:prstGeom prst="curvedConnector5">
            <a:avLst>
              <a:gd name="adj1" fmla="val 49821"/>
              <a:gd name="adj2" fmla="val 49916"/>
              <a:gd name="adj3" fmla="val 49821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0920" y="256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484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rot="16200000">
            <a:off x="216000" y="2815920"/>
            <a:ext cx="2304000" cy="792720"/>
          </a:xfrm>
          <a:prstGeom prst="bentConnector3">
            <a:avLst>
              <a:gd name="adj1" fmla="val 1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1763280" y="3933360"/>
            <a:ext cx="577080" cy="43272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340000" y="3860280"/>
            <a:ext cx="26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2410920" y="4941360"/>
            <a:ext cx="1008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0800000">
            <a:off x="3492360" y="4797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7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492360" y="450864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4508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2800080" y="4047480"/>
            <a:ext cx="793080" cy="418320"/>
          </a:xfrm>
          <a:prstGeom prst="bentConnector3">
            <a:avLst>
              <a:gd name="adj1" fmla="val 1021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003640" y="3429000"/>
            <a:ext cx="1873440" cy="792000"/>
          </a:xfrm>
          <a:custGeom>
            <a:avLst/>
            <a:gdLst>
              <a:gd name="textAreaLeft" fmla="*/ 0 w 1873440"/>
              <a:gd name="textAreaRight" fmla="*/ 1873800 w 187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nlicht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5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3573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Fahr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1476000" y="2565000"/>
            <a:ext cx="432360" cy="28800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>
            <a:off x="1835280" y="4941360"/>
            <a:ext cx="576360" cy="432720"/>
          </a:xfrm>
          <a:prstGeom prst="curvedConnector5">
            <a:avLst>
              <a:gd name="adj1" fmla="val 45437"/>
              <a:gd name="adj2" fmla="val 49958"/>
              <a:gd name="adj3" fmla="val 45437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619280" y="1989000"/>
            <a:ext cx="2160" cy="72000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2050560" y="4221000"/>
            <a:ext cx="1080" cy="9374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755280" y="5373360"/>
            <a:ext cx="108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H="1" flipV="1" rot="5400000">
            <a:off x="71640" y="3967200"/>
            <a:ext cx="2521800" cy="291240"/>
          </a:xfrm>
          <a:prstGeom prst="bentConnector3">
            <a:avLst>
              <a:gd name="adj1" fmla="val 9961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50920" y="501336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m über Zün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394920" y="3676320"/>
            <a:ext cx="1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84360" y="220464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1187280" y="227592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1258920" y="1843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1763280" y="184428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692000" y="278100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10800000">
            <a:off x="3132000" y="26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132000" y="234900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263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4" idx="0"/>
          </p:cNvCxnSpPr>
          <p:nvPr/>
        </p:nvCxnSpPr>
        <p:spPr>
          <a:xfrm flipH="1" rot="16200000">
            <a:off x="2476440" y="1852200"/>
            <a:ext cx="650160" cy="6343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427640" y="4005360"/>
            <a:ext cx="2881080" cy="431640"/>
          </a:xfrm>
          <a:prstGeom prst="leftArrowCallout">
            <a:avLst>
              <a:gd name="adj1" fmla="val 25002"/>
              <a:gd name="adj2" fmla="val 25000"/>
              <a:gd name="adj3" fmla="val 111245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07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789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alter 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349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39280" y="458100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1044360" y="465228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1116000" y="422028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618920" y="422064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547640" y="515736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0800000">
            <a:off x="2987640" y="5013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987640" y="4724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01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47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2331000" y="4228920"/>
            <a:ext cx="650160" cy="63396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79280" y="4653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9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heizbare 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28640"/>
            <a:ext cx="2592360" cy="432000"/>
          </a:xfrm>
          <a:prstGeom prst="leftArrowCallout">
            <a:avLst>
              <a:gd name="adj1" fmla="val 25002"/>
              <a:gd name="adj2" fmla="val 25000"/>
              <a:gd name="adj3" fmla="val 100014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0028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899640" y="1844280"/>
            <a:ext cx="11516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716360" y="4149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050920" y="1700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700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492000" y="184428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700280"/>
            <a:ext cx="1944720" cy="576360"/>
          </a:xfrm>
          <a:prstGeom prst="downArrowCallout">
            <a:avLst>
              <a:gd name="adj1" fmla="val 84361"/>
              <a:gd name="adj2" fmla="val 84354"/>
              <a:gd name="adj3" fmla="val 16667"/>
              <a:gd name="adj4" fmla="val 66667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73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ber Bremsflüssigk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3778560" y="1915920"/>
            <a:ext cx="432720" cy="289440"/>
          </a:xfrm>
          <a:prstGeom prst="bentConnector3">
            <a:avLst>
              <a:gd name="adj1" fmla="val 1050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4211640" y="2276280"/>
            <a:ext cx="505440" cy="144720"/>
          </a:xfrm>
          <a:prstGeom prst="curvedConnector5">
            <a:avLst>
              <a:gd name="adj1" fmla="val 49964"/>
              <a:gd name="adj2" fmla="val 49875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>
            <a:off x="4716000" y="2420640"/>
            <a:ext cx="259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6300720" y="1844280"/>
            <a:ext cx="17280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7127640" y="2025000"/>
            <a:ext cx="577080" cy="215280"/>
          </a:xfrm>
          <a:prstGeom prst="bentConnector3">
            <a:avLst>
              <a:gd name="adj1" fmla="val 49812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00000" y="119700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lampe Brems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21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91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851280" y="350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851280" y="386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573360"/>
            <a:ext cx="503280" cy="576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8" idx="1"/>
          </p:cNvCxnSpPr>
          <p:nvPr/>
        </p:nvCxnSpPr>
        <p:spPr>
          <a:xfrm>
            <a:off x="826920" y="3860280"/>
            <a:ext cx="921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3"/>
          </p:cNvCxnSpPr>
          <p:nvPr/>
        </p:nvCxnSpPr>
        <p:spPr>
          <a:xfrm flipV="1">
            <a:off x="2282760" y="3859920"/>
            <a:ext cx="489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2771280" y="3644280"/>
            <a:ext cx="5058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26" idx="0"/>
          </p:cNvCxnSpPr>
          <p:nvPr/>
        </p:nvCxnSpPr>
        <p:spPr>
          <a:xfrm>
            <a:off x="3276720" y="3644640"/>
            <a:ext cx="5925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3490560" y="3645360"/>
            <a:ext cx="361080" cy="359640"/>
          </a:xfrm>
          <a:prstGeom prst="bentConnector3">
            <a:avLst>
              <a:gd name="adj1" fmla="val 10518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1"/>
          </p:cNvCxnSpPr>
          <p:nvPr/>
        </p:nvCxnSpPr>
        <p:spPr>
          <a:xfrm>
            <a:off x="4211640" y="364464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211640" y="400500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2771280" y="4652640"/>
            <a:ext cx="5058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1186920" y="3499920"/>
            <a:ext cx="1585080" cy="1297800"/>
          </a:xfrm>
          <a:prstGeom prst="bentConnector3">
            <a:avLst>
              <a:gd name="adj1" fmla="val 168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>
            <a:off x="3347640" y="465264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>
            <a:off x="3059280" y="3789000"/>
            <a:ext cx="2160" cy="86436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140" name=""/>
          <p:cNvCxnSpPr>
            <a:endCxn id="110" idx="0"/>
          </p:cNvCxnSpPr>
          <p:nvPr/>
        </p:nvCxnSpPr>
        <p:spPr>
          <a:xfrm flipH="1" flipV="1" rot="10800000">
            <a:off x="3492000" y="4005000"/>
            <a:ext cx="1210680" cy="289440"/>
          </a:xfrm>
          <a:prstGeom prst="bentConnector3">
            <a:avLst>
              <a:gd name="adj1" fmla="val -118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211640" y="4365720"/>
            <a:ext cx="289080" cy="576000"/>
          </a:xfrm>
          <a:prstGeom prst="flowChartProcess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4140000" y="5515920"/>
            <a:ext cx="432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1" idx="2"/>
          </p:cNvCxnSpPr>
          <p:nvPr/>
        </p:nvCxnSpPr>
        <p:spPr>
          <a:xfrm>
            <a:off x="4355640" y="4957560"/>
            <a:ext cx="1080" cy="7052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1835280" y="5589720"/>
            <a:ext cx="503280" cy="57600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354400" y="5876640"/>
            <a:ext cx="17136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44" idx="1"/>
          </p:cNvCxnSpPr>
          <p:nvPr/>
        </p:nvCxnSpPr>
        <p:spPr>
          <a:xfrm>
            <a:off x="900000" y="5877000"/>
            <a:ext cx="9201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4067280" y="5877000"/>
            <a:ext cx="505440" cy="289440"/>
          </a:xfrm>
          <a:prstGeom prst="curvedConnector5">
            <a:avLst>
              <a:gd name="adj1" fmla="val 49964"/>
              <a:gd name="adj2" fmla="val 49937"/>
              <a:gd name="adj3" fmla="val 49964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571640" y="6165360"/>
            <a:ext cx="648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219640" y="5877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169920 h 576360"/>
              <a:gd name="textAreaBottom" fmla="*/ 4064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367"/>
                </a:moveTo>
                <a:lnTo>
                  <a:pt x="0" y="15233"/>
                </a:lnTo>
                <a:lnTo>
                  <a:pt x="8100" y="15233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5233"/>
                </a:lnTo>
                <a:lnTo>
                  <a:pt x="21600" y="15233"/>
                </a:lnTo>
                <a:lnTo>
                  <a:pt x="21600" y="6367"/>
                </a:lnTo>
                <a:lnTo>
                  <a:pt x="13500" y="6367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367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6021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ker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0"/>
          </p:cNvCxnSpPr>
          <p:nvPr/>
        </p:nvCxnSpPr>
        <p:spPr>
          <a:xfrm flipV="1">
            <a:off x="6227280" y="3644640"/>
            <a:ext cx="1080" cy="2216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1"/>
          </p:cNvCxnSpPr>
          <p:nvPr/>
        </p:nvCxnSpPr>
        <p:spPr>
          <a:xfrm flipH="1" flipV="1" rot="5400000">
            <a:off x="5571720" y="4660560"/>
            <a:ext cx="2464560" cy="1153440"/>
          </a:xfrm>
          <a:prstGeom prst="bentConnector3">
            <a:avLst>
              <a:gd name="adj1" fmla="val -863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6764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35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58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llgn/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500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gn/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328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7162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/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558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30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50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924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blink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050920" y="198864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endCxn id="165" idx="0"/>
          </p:cNvCxnSpPr>
          <p:nvPr/>
        </p:nvCxnSpPr>
        <p:spPr>
          <a:xfrm>
            <a:off x="1476000" y="1844280"/>
            <a:ext cx="561240" cy="289440"/>
          </a:xfrm>
          <a:prstGeom prst="bentConnector3">
            <a:avLst>
              <a:gd name="adj1" fmla="val 5121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V="1">
            <a:off x="4140360" y="2420640"/>
            <a:ext cx="576360" cy="216720"/>
          </a:xfrm>
          <a:prstGeom prst="curvedConnector5">
            <a:avLst>
              <a:gd name="adj1" fmla="val 49875"/>
              <a:gd name="adj2" fmla="val 49916"/>
              <a:gd name="adj3" fmla="val 49875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5" idx="1"/>
          </p:cNvCxnSpPr>
          <p:nvPr/>
        </p:nvCxnSpPr>
        <p:spPr>
          <a:xfrm>
            <a:off x="3508200" y="2133720"/>
            <a:ext cx="632880" cy="504000"/>
          </a:xfrm>
          <a:prstGeom prst="bentConnector3">
            <a:avLst>
              <a:gd name="adj1" fmla="val 26579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rot="10800000">
            <a:off x="4716360" y="44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2771280" y="4869000"/>
            <a:ext cx="577080" cy="28944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endCxn id="170" idx="0"/>
          </p:cNvCxnSpPr>
          <p:nvPr/>
        </p:nvCxnSpPr>
        <p:spPr>
          <a:xfrm flipV="1">
            <a:off x="3348000" y="4580640"/>
            <a:ext cx="1355040" cy="577080"/>
          </a:xfrm>
          <a:prstGeom prst="bentConnector3">
            <a:avLst>
              <a:gd name="adj1" fmla="val 101381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292720" y="4437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4571640" y="5516280"/>
            <a:ext cx="432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0:47:42Z</dcterms:created>
  <dc:creator>Andreas Raab</dc:creator>
  <dc:description/>
  <dc:language>en-US</dc:language>
  <cp:lastModifiedBy>Andreas Raab</cp:lastModifiedBy>
  <dcterms:modified xsi:type="dcterms:W3CDTF">2004-04-01T22:51:12Z</dcterms:modified>
  <cp:revision>12</cp:revision>
  <dc:subject/>
  <dc:title>Schaltplan Schalterleiste</dc:title>
</cp:coreProperties>
</file>